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FED-1307-4C53-85F6-5354B6F4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91F-89D6-4DC8-8140-C104B7AB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1E3-0684-4AE2-B692-3856E6D0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FA9-E853-4BB1-8206-F91EAF63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C76-73DD-4B20-A6FC-038B194F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ED0-D2FB-4C27-B39B-C7CCC9E0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F96-5D35-4AC7-85F1-BF96FACB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255-6A51-490E-A5F0-692265F7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FBA-0435-42E7-A4D1-0D66B4BB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467-2E65-4756-9F9D-51123CA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C37-834B-426E-A181-B5993763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3C8-8965-412E-AD70-D1B67B88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DD83-35F0-41A2-975A-5F690EAC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47:22Z</dcterms:created>
  <dc:creator>abeason</dc:creator>
  <dc:description/>
  <dc:language>en-US</dc:language>
  <cp:lastModifiedBy>abeason</cp:lastModifiedBy>
  <dcterms:modified xsi:type="dcterms:W3CDTF">2009-05-26T18:47:28Z</dcterms:modified>
  <cp:revision>1</cp:revision>
  <dc:subject/>
  <dc:title>Slide 1</dc:title>
</cp:coreProperties>
</file>